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89AA-7F19-4FAA-959E-E8A9FEC6E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65C4-3988-4932-BC42-23BEAB99E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58C-BAC2-493C-9138-B11A78BB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A69-8E39-4F82-9C87-BD8506C9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732-C760-474F-968E-C37E82D1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2B0-AA22-4040-B427-A5881882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9B69-4CCF-444C-BA19-3708BB63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384-E289-4702-8368-5A0F103A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2E0-4C46-4A2F-A4DA-D9C3C550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68D-038F-40B1-9BC7-62A365A4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011-2F98-45ED-88F4-FAC6C8AB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8DC-0EAB-42F5-B6B6-6BDA80A5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600-B6BE-4F1C-A10D-35057615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EBF-4836-4366-A289-1DF080EE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B816-B39E-4376-BDD1-82D01F80B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na Abdelha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na Abdelhale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82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Merna. Tengo 14 años. Estoy feliz y loca. Vivo en New york. Yo tengo tus hermanos. Amo mi amig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3029040" y="320040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3657600" y="3124080"/>
            <a:ext cx="36576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yora. Yo n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ómo estás tú hoy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8:03Z</dcterms:modified>
  <cp:revision>105</cp:revision>
  <dc:subject/>
  <dc:title>Profile</dc:title>
</cp:coreProperties>
</file>